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988-511F-4F06-A64D-0BE97219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563-FF72-45B8-9974-F3AF6A3B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DB2-DA33-457F-95E6-671F4957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820-E1D8-48D0-ACAA-750CF4E4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242E-7AA1-481D-8548-758972DA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9522-9109-4DD3-91C9-18220EE2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783A-09E6-4ED0-9DD3-ACA1A8AC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7B00-74CD-4800-9C0A-168026FE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1127-4423-4347-A44D-F2B6C3C8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61DD-DC1F-4B0F-89CE-6EE12BA3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A2F1-24AA-469A-A85A-3B2054F3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51D8-A589-41A4-B5C1-D1DE024E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2EA7-4A04-4528-866A-F055879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FA4D-927F-487D-A17E-C6B6C1A8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318F-E2C5-49B6-99DF-0E06C0CB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E709-BBD9-4FF9-9759-43A7F254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9F11-9962-4116-BA25-05A62C6B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8CE-3A0D-42D6-9CF4-F9EDB827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4D7-3B38-4619-B492-473C1CD9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F5D-F8D3-4A7E-851C-2EC02633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DE3-1C40-4BEA-9F93-FC69670D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1E9-0BD0-4B0D-AC6A-1919CEDE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AD9-0F90-40A8-9822-1DF97072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782-2EE9-445E-AC2B-5F4BB2F6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4326-5386-4ABC-AABD-B650F4A097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E4D0-92C6-40DA-977E-83ECFC061E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e and see King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hur!!!!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5920" y="1719360"/>
            <a:ext cx="6029280" cy="44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201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ing Arthur and The Nights of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Round Tabl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31840" y="1719360"/>
            <a:ext cx="50803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dy of the Lak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178080" y="1719360"/>
            <a:ext cx="2786040" cy="441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Arial Black"/>
              </a:rPr>
              <a:t>King Arthur</a:t>
            </a:r>
            <a:r>
              <a:rPr b="1" lang="en-US" sz="4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330066"/>
                </a:solidFill>
                <a:latin typeface="Arial Black"/>
              </a:rPr>
              <a:t>the movie</a:t>
            </a:r>
            <a:br>
              <a:rPr sz="4500"/>
            </a:br>
            <a:r>
              <a:rPr b="1" lang="en-US" sz="4500" spc="-1" strike="noStrike">
                <a:solidFill>
                  <a:srgbClr val="330066"/>
                </a:solidFill>
                <a:latin typeface="comic"/>
              </a:rPr>
              <a:t>coming July 7</a:t>
            </a:r>
            <a:r>
              <a:rPr b="1" lang="en-US" sz="4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3049560"/>
            <a:ext cx="6640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aitlynn Brig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 Created By: Antoine Fu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d the boo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King Arthur: Dark Age Warrior and Mythic H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King Arthur and The Round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2286000" cy="349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Bauhaus 93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Bauhaus 93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Bauhaus 93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Bauhaus 93"/>
              </a:rPr>
              <a:t>King Arthu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51200" y="1719360"/>
            <a:ext cx="4035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eat K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eat war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falls in love with Guinever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2203560"/>
            <a:ext cx="40356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NEVE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5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eisty warri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 falls in love with King Arthu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56240" y="2111400"/>
            <a:ext cx="403524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rl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35200" y="1719360"/>
            <a:ext cx="3279600" cy="441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51200" y="1719360"/>
            <a:ext cx="4035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ed King Arthur when he was a b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elps Arthur become k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036960" cy="44114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e Lancelot hit to the death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ing Arthur and Guinevere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30440" y="1719360"/>
            <a:ext cx="5881680" cy="4411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oared in the Ston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44720" y="1719360"/>
            <a:ext cx="3452760" cy="441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5:49:48Z</dcterms:created>
  <dc:creator>215007</dc:creator>
  <dc:description/>
  <dc:language>en-US</dc:language>
  <cp:lastModifiedBy>215007</cp:lastModifiedBy>
  <dcterms:modified xsi:type="dcterms:W3CDTF">2010-02-05T19:34:47Z</dcterms:modified>
  <cp:revision>7</cp:revision>
  <dc:subject/>
  <dc:title>King Arthur  the movie coming July 7 </dc:title>
</cp:coreProperties>
</file>